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12D-E614-4A27-9E15-966C24BA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67E-F6FE-48D1-928F-1CAFB2C2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A76-7A56-4BC4-B82F-50EFD990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3F3-4CE4-409A-9B8F-0486AC9F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B9AE6-DDD7-4D0F-A80E-3167D5FE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D77A8-4CA0-4514-BF4F-CA53514C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8E7C2-4513-455F-A653-ACFDBC62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67F72-AE1B-455B-A27E-223607E7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5C973-EFC3-484D-9FA4-58985ED1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EF606-79C7-40D3-9FA6-12EA6AF6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0BC1E-C8C8-442C-86DC-F5F90D14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2E5-48CA-45A8-B5EA-5EDEC612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379B9-0F66-4D70-A546-C939FFF7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D8127-7EF3-432D-8159-57823C08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FC99D-D84E-44DD-91C8-C962490E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9670D-7E2B-4AEB-B2D2-B135D8E9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EF2F5-9936-4B72-B625-C6FD38F6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A8E-5EEA-40AE-9D41-1ACB4782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5BE-6EEC-497A-BEEA-1F2F37A2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456-168E-4E72-85B9-B1D87990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EDE-533C-4381-ACFA-6910F5A2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2D6-BDE0-40FC-A09F-3CBD2BFA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8FC-2670-4DDE-865F-4F88DF8E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4EC-78EC-4DC7-AB43-B0AEA8EE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67DB-9DA3-4310-810A-F9C33782C9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0560-B5C0-4041-9508-58C295C50A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Joshua: The New Leader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. 1:1 – 6: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s. 18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57800" y="1066680"/>
            <a:ext cx="33526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e Elevation Level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Jordan Valle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Jeri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238880" cy="4310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133720" y="0"/>
            <a:ext cx="444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Israelites March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round 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5362560" cy="6898320"/>
            <a:chOff x="0" y="0"/>
            <a:chExt cx="5362560" cy="6898320"/>
          </a:xfrm>
        </p:grpSpPr>
        <p:pic>
          <p:nvPicPr>
            <p:cNvPr id="148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8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846240" y="656604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3480" y="663408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3657240" y="3200400"/>
            <a:ext cx="251460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877000" y="2438280"/>
            <a:ext cx="3267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ossing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rd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380880"/>
            <a:ext cx="3429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harge To Joshua – 1:1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shua’s Command To The People – 1:10-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ying Jericho: Rahab’s Help -2:1-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4038480"/>
            <a:ext cx="3276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ing The Jordan River – 3:1-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emorial Monuments – 4:1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Ark Moves -4:10-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ument at Gilgal – 4:19-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149400"/>
            <a:ext cx="4800600" cy="6706440"/>
            <a:chOff x="0" y="149400"/>
            <a:chExt cx="4800600" cy="6706440"/>
          </a:xfrm>
        </p:grpSpPr>
        <p:pic>
          <p:nvPicPr>
            <p:cNvPr id="156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149400"/>
              <a:ext cx="4800600" cy="63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443040" y="6280200"/>
              <a:ext cx="1354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520" y="6343560"/>
              <a:ext cx="2139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4724280" y="457200"/>
            <a:ext cx="4000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vents At Gilga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124080" y="1143000"/>
            <a:ext cx="4648320" cy="2895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52480" y="3124080"/>
            <a:ext cx="99540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81280"/>
            <a:ext cx="83808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3124080"/>
            <a:ext cx="3809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lected Circumcision – 5:1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ssover Kept &amp; Manna Ceases – 5:1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149400"/>
            <a:ext cx="4648320" cy="6706440"/>
            <a:chOff x="228600" y="149400"/>
            <a:chExt cx="4648320" cy="6706440"/>
          </a:xfrm>
        </p:grpSpPr>
        <p:pic>
          <p:nvPicPr>
            <p:cNvPr id="165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228600" y="149400"/>
              <a:ext cx="4648320" cy="63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562560" y="6280200"/>
              <a:ext cx="1311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880" y="6343560"/>
              <a:ext cx="20721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1676520" y="3200400"/>
            <a:ext cx="16239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rich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3581280"/>
            <a:ext cx="68580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62520" y="304920"/>
            <a:ext cx="49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quest of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entral Hill Count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1981080"/>
            <a:ext cx="3733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ince of Jehovah’s Army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:13 – 6: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Battle for Jericho – 6:6-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3429000"/>
            <a:ext cx="25909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– 6:1-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arch – 6:3-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hab Saved – 6:22-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e On The Rebuilder – 6:26,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f: 1 Kgs.16: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2590920" y="2590920"/>
            <a:ext cx="3962160" cy="1676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477120" y="2438280"/>
            <a:ext cx="1380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742840" y="1676520"/>
            <a:ext cx="297180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38680" y="1447920"/>
            <a:ext cx="108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ilgal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66680" y="227160"/>
            <a:ext cx="7162920" cy="638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28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20120" y="2514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 Satellite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977240" cy="6091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895480" y="609480"/>
            <a:ext cx="1623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now Cap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0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4218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4495680"/>
            <a:ext cx="407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 - City of Palm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410080" y="3295800"/>
            <a:ext cx="2381400" cy="3562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838080" y="3733920"/>
            <a:ext cx="1381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7680" y="228600"/>
            <a:ext cx="4788000" cy="567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638680" y="838080"/>
            <a:ext cx="312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t Concept of How The Walls Fell Down A Sloping Rock Foundation, Considering Present Rem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Terry W. Benton</dc:creator>
  <dc:description/>
  <dc:language>en-US</dc:language>
  <cp:lastModifiedBy>Terry W. Benton</cp:lastModifiedBy>
  <dcterms:modified xsi:type="dcterms:W3CDTF">2005-01-08T00:07:28Z</dcterms:modified>
  <cp:revision>4</cp:revision>
  <dc:subject/>
  <dc:title>Joshua: The New Leader</dc:title>
</cp:coreProperties>
</file>